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BC061A-10E6-409F-872E-D9AD1A8B3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99D68F-EA11-42FA-898F-A2FA45808FA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708120" indent="-343080"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Toksin se vezuje za glikoprotein na površini ćelije domaćina i inhibira sintezu proteina inhibišući aktivnost 60S subjedinice na ribozomima, što dovodi do smrti ćelij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77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7119BC-1BA8-410F-B2F7-9EC509477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nvazizivni su najčesći uzrocnici akutne dijareje. ETEC = enterotoksicna E.coli – najcesci bakterijski izazivac dijareje u zemljama u razvoju, kao i putnicke dijare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io cholerae = gram negativna fakultativno anaerobna bakterija, infekcije najcesce unosenjem kontaminirane vode,  ribe, skolj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731A51-946D-4365-A77D-63A51C658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7A501B-4E46-4327-BFF0-D2F46CDC067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FFBFBE-2B39-4A92-88F2-5F34AA96103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6DD172-FBB1-443B-8BAF-CA5D5558231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2659FD-25A4-41C7-9B0A-5AC36C8F4BE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EEAC3C-3B4A-4ED1-8236-4A7BD08F016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4B848-2C69-40BF-9A36-8375F1C8C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08FF-8DDB-4391-AD38-4EA4585DB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C1416-B97C-4C98-8F87-DBF83F068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515A3-7F31-4C0F-9859-8CF621925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F991B-F74A-4904-96DB-0D022D30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4631D-960D-458C-B6B7-AE2A09FE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4E99C-5841-4F66-BF49-D498D000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EE9BC-B86A-40AF-84EB-59FE68EB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EA2D4-40D0-4D8B-A79D-F059BB4F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71004-9FE6-4090-B9BE-1B812AC2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4AFEB-F10C-4DBF-AB1B-F873E54D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1026-8695-459E-9659-B720058CE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C8B85-6618-46A4-8924-E3AE2F98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1697D-CBA1-4BF4-A1AB-E12927F1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91672-CC45-4F5E-9BF2-FD4AF903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B3D5D-18CB-4369-980A-E8D4ADC9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F794B-1B1A-4DDB-9B20-9252FECA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5967E-9430-49A1-A0FE-FD5093720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82D4-7D90-4F7F-849C-6D59C96A3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2047-E24F-42FB-8937-EEDC071CC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30CF-3B1F-48CE-9BA8-5ABB6D705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C1F4-CF9F-4621-8EF3-D27BA61A6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30A7-4471-4111-AA45-54268389F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9F69-77E0-4A47-BBBE-D01A3F64F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F1E6-55FB-4FE7-8DAC-EFDE25E11AE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1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A945-D3D1-4121-8CC1-2B481E4BF333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26BC-5164-4259-9649-2CD615A5BC0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1.png"/><Relationship Id="rId8" Type="http://schemas.openxmlformats.org/officeDocument/2006/relationships/hyperlink" Target="http://upload.wikimedia.org/wikipedia/commons/4/49/Nifuroxazide.svg" TargetMode="External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ИНФЕКЦИЈЕ И ИНТОКСИКАЦИЈЕ ДИГЕСТИВНОГ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Проф. Др Жељко Мијаилови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Факултет медицинских наука Крагујева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Катедра за инфективн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A2D2-B5DB-474F-AB98-E006BAFEB63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543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Епидемиолошке карактеристик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71360" y="1428840"/>
            <a:ext cx="7543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ома честе инфе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Чешће у земљама са топлом климом (тропи и субтропи) него у земљама умереног климатског поја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натно чешће у срединама са ниским нивоом економске развијености и хигијенског стандар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 овим срединама чешће код мале деце и у топло доба године (изузетак: Yersinia enterocolitica и Rotaviru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Извор инфекције оболеле особе и клицоноше, животиње и намирнице жив.порекла (јерсиниоза, камплобактериоза, сламонелоз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Фекоорални пут преноса (контакт, вода, храна, мув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AED9-AF94-46C5-87A5-8A52D7143EB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Патогенеза цревних инфекција и интоксикација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1. Степен инвазивности микроорганиз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Неинвазивни микроорганизми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taphylococcus aureus, Bacilus cereus, Clostridium perfrigens, Vibrio parhaemolyticus, Vibrio cholerae, E.coli, virusi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евазилажење механизама имунске одбране (пре свега неспецифичн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зивање за специфичне рецепт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Без теденције уласка у епит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Без оштећења епителних ћелија (или минимално оштећење-скраћење микровила, без њиховог убијањ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јчешће луче ентеротоксине-поремећај транспорта електролита и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748D-B03F-4638-92CC-1578152A8F5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5520" y="260280"/>
            <a:ext cx="8604360" cy="27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425520" y="2830680"/>
            <a:ext cx="8604360" cy="29019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380880" y="5519880"/>
            <a:ext cx="8229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NEINVAZIVNE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ET E.Coli , V.choler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Razmnožavaju se u lumenu creva,na epitelu, luče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enterotoksin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koji stimulišu lučenje adenil-ciklaza→ propustljivost crevnog epitela,sekrecija  vode i elektrolite u lumenu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→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česte, obilne vodenaste stolice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1908000" y="0"/>
            <a:ext cx="60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Calibri"/>
              </a:rPr>
              <a:t>Patogeneza akutne bakt.dijareje uzrokovane NEINVAZIVNIM uzročnic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14240" y="500040"/>
            <a:ext cx="78962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Инвазивни микроорганизми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higella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, 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n-typhus salmonella, дијарогена Esherichia coli (EPEC, EIEC, EHEC, EAgEC, DAEC), Yersinia enterocolitica, Campylobacter jejuni/col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зивање за сопецифичне рецепт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ирање у епит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лобађање ендо- или/и егзотокс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окретање запаљенског одгово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падање епит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еки узрочници продиру кроз епител у субепителни простор (даље размножавањ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ор у лимфоток и регионалне (мезентеријалне) лимфне чворо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ор у крвоток (бактеријемија) са насељавањем других органа (јетра, мозак, плућа и ендокард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Сеп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889B-FD95-419A-B495-9B069DCF4BD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28080" cy="5873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228600" y="5629320"/>
            <a:ext cx="823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INVAZIVNE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: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Salmonella, Shigella, Campilobacter,Yersinia, EP</a:t>
            </a:r>
            <a:r>
              <a:rPr b="1" lang="sr-Latn-C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 E.coli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Prodiraju u  mukozne ćelije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i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razmnožavaju se. Kad se raspadnu, oslobađaju se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endotoksin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(lipopolisaharid sa pirogen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im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svojstvima, PG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), ….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ostećenje epitela, </a:t>
            </a:r>
            <a:r>
              <a:rPr b="1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nekroza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i deskvamacija ćelije (feces sadrži epitel, Le, Er,slu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1590480" y="-54000"/>
            <a:ext cx="59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Arial"/>
              </a:rPr>
              <a:t>Patogeneza akutne bakt.dijareje uzrokovan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Arial"/>
              </a:rPr>
              <a:t>INVAZIVNIM uzročnic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3016080" y="1335240"/>
            <a:ext cx="3095640" cy="48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4" name="Text Box 6"/>
          <p:cNvSpPr/>
          <p:nvPr/>
        </p:nvSpPr>
        <p:spPr>
          <a:xfrm>
            <a:off x="1066680" y="85680"/>
            <a:ext cx="663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AKUTNA INFEKTIVNA DIJARE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patogeneza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095880" y="1523880"/>
            <a:ext cx="27352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VAZIV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lmonella, Shigella, Campilobacter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ersini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a, 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 E.col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rodiru u mukozne ćelije, razmnožavaju se.                   Kad se raspadnu, oslobađaju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dotoksi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štećenje epitela,  nekroze  i deskvamacij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6324480" y="5715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C C Swis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pitel, Er, Le, slu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01520" y="1989000"/>
            <a:ext cx="28083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azmnožavaju se u lumenu creva,na epitelu, luč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otoksin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koji stimuli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šu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sintezu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adenil-ciklaz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ekrecija  vode i elektrolite u lumenu 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česte, obilne vodenaste stol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1763640" y="357336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7429680" y="4286160"/>
            <a:ext cx="0" cy="285840"/>
          </a:xfrm>
          <a:prstGeom prst="line">
            <a:avLst/>
          </a:prstGeom>
          <a:ln cap="sq"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6324480" y="1371600"/>
            <a:ext cx="2743200" cy="1625760"/>
          </a:xfrm>
          <a:prstGeom prst="rect">
            <a:avLst/>
          </a:prstGeom>
          <a:noFill/>
          <a:ln cap="sq" w="28440">
            <a:solidFill>
              <a:srgbClr val="0066ff"/>
            </a:solidFill>
            <a:miter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1571760" y="4071960"/>
            <a:ext cx="0" cy="287280"/>
          </a:xfrm>
          <a:prstGeom prst="line">
            <a:avLst/>
          </a:prstGeom>
          <a:ln cap="sq"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38240" y="1400040"/>
            <a:ext cx="2735280" cy="1366920"/>
          </a:xfrm>
          <a:prstGeom prst="rect">
            <a:avLst/>
          </a:prstGeom>
          <a:solidFill>
            <a:srgbClr val="c00000"/>
          </a:solidFill>
          <a:ln cap="sq" w="28440">
            <a:solidFill>
              <a:srgbClr val="0066ff"/>
            </a:solidFill>
            <a:miter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NEINVAZIVNI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T E.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c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li, V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holer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2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066320" y="999720"/>
            <a:ext cx="75438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Механизми настанка дијаре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мањење апсорпцијске површине (скраћење микровил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осмотске дијаре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секреција осмотски активних супстанци у цревни лумен (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a, C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уношење сложених маркомолекула-угљених хидрата (лактоза) и беланчев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фламацијски пролив (простгландини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59BF-DBAF-47B7-AB98-7D55A85B70A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Клиничка слик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фективни синдром (није обавеза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оминантни клинички симптом-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олив-две или више столица ненормалне конзистенције (воденасте или ретко кашас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толица одрасле особе са волуменом&gt; 200г/дан-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еста пасажа течних сто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једна или више крваво-слузавих сто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Екстраинтестиналне манифестације (шигелоза, јерсиниоза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H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3992-B745-433D-9229-C3E8CE8966C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Утицај инвазивности микроорганизама на клинички слику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28800" y="1357200"/>
          <a:ext cx="7543800" cy="4937400"/>
        </p:xfrm>
        <a:graphic>
          <a:graphicData uri="http://schemas.openxmlformats.org/drawingml/2006/table">
            <a:tbl>
              <a:tblPr/>
              <a:tblGrid>
                <a:gridCol w="2576520"/>
                <a:gridCol w="4967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нвазивн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микроорганиз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Утицај на клинички сли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Не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организ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Кратка инкубација-неколико с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почиње нагло, без продр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Температура није најчешће повиш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краткотрајна (24-72 часа), најчешће пролази без специфичног лечења (изузимајући колер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организ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Дужа инкубациј-бар 24-48 час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почиње постепено-током 1 до 2 дана (малаксалост, безвољност, мијалгије, мучнина, губитак апетит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Температура увек присутна, најчешће преко 38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траје дуже, неопходно лече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Склоност ка компликацијама-бактеријемији и сеп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</a:tbl>
          </a:graphicData>
        </a:graphic>
      </p:graphicFrame>
      <p:sp>
        <p:nvSpPr>
          <p:cNvPr id="1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4E44-0D56-4BCF-8997-686869AB044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5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2. Сегментност лезија дигестивног тракт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B34C-9E59-43BA-8254-BD183971D5B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42920" y="857160"/>
          <a:ext cx="8858160" cy="5643720"/>
        </p:xfrm>
        <a:graphic>
          <a:graphicData uri="http://schemas.openxmlformats.org/drawingml/2006/table">
            <a:tbl>
              <a:tblPr/>
              <a:tblGrid>
                <a:gridCol w="2477880"/>
                <a:gridCol w="2251080"/>
                <a:gridCol w="4129200"/>
              </a:tblGrid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гмент дигестивног тра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рактеристике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ксимални део танког цр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и тип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ома волуминозне од почетка до кра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дене конзистен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јчешће безбој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заударај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месе несварене хран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стални део танког цр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и тип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луминозне</a:t>
                      </a:r>
                      <a:br>
                        <a:rPr sz="1800"/>
                      </a:b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шасте конзистен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елене или браон бо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Јако заударај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бело црево (лева половин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тична столи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 почетку волум., касније оскуд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вих неколико столица фекулентне, касније фекалије оскудније а повећава се количина слузи, јавља се сукрвица, тенезми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42560" y="1557360"/>
            <a:ext cx="7543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астроинтестиналне инфекције-на 2. месту по учесталости иза респираторних инфекција (у свету дневно оболи око 5 милиона људ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У земљама са “нижим” хигијенским стандардом-водећи узрок морбидитета и морталитета (нарочито деце млађе од 5 год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У земљама са “вишим” хигијенским стандардом-чешће у дечијој популацији, међу сиромашнијим слојевима и имунокомпромитованим пацијентима (АИДС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CBCD-8920-4C79-A22D-12B615F9B86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:\Users\Toshiba\Desktop\kako-zaustaviti-proliv.jpg"/>
          <p:cNvPicPr/>
          <p:nvPr/>
        </p:nvPicPr>
        <p:blipFill>
          <a:blip r:embed="rId4"/>
          <a:stretch/>
        </p:blipFill>
        <p:spPr>
          <a:xfrm>
            <a:off x="6791400" y="0"/>
            <a:ext cx="235260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Утицај инвазивности и сегментности лезија на клиничку слику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85840" y="1428840"/>
          <a:ext cx="8572320" cy="420696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000160"/>
                <a:gridCol w="2500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гмент ГИТ-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ост микроорганиз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сте патогених микроорганиз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лудац, дуоденум, почетак јејуну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а тип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phylococcus au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ilus ce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choler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леум, посебно терминални илеу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о-пенетрант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а тип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а тип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monel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mpilobacter jeju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rsinia enterocoli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бело црево (посебно лева половина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тич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igel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amoeba histoly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lantidium 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.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terohaemorrha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tridium diffici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7512-EA62-49BC-8BFD-53AAE72EF8B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Oпшти принципи дијагностике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E0EA-4E46-4ED5-9F41-EDB4417EC01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2960" y="1214280"/>
            <a:ext cx="79675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пидемиолошка анк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Лабораторијс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Хематолошке анализе (ККС, хематокри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иохемијске анализе (ЦРП, уреа, креатинин, АСТ, АЛТ, јоногра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14240" y="713880"/>
            <a:ext cx="78962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Бактериолошке претраге столице (копрокулту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умња на инвазивне инфекције (Salmonellae, Campilobacter jejuni, Yersinia enterocolitica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онављати (2-3 пута)-сензитивне у 70% (многе бакт. цревне инфекције, чак и до 50%, остају етиолошки недијагностикова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 започињања антибиотске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За неке претраге столице неопходна консултација са микробиологом-специфични услови култивисања (вибриони, Е. Coli, C.jejuni et coli, Yersinia enterocolitica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Вирусолошке претраге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Електронска микроско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алаз вирусног антигена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F47C-625B-4D87-BDA3-9CABD57FA98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56800" y="785880"/>
            <a:ext cx="775332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умња на бактеријско тровање храном-преглед повраћеног садржаја и остатака инкриминисане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Паразитолошки преглед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`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рострука претрага густе столице на цисте протозоа и јаја хелми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Размаз столице, бојење и фиксација-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.histolytica, Criptosporid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глед великог узорка столице (en masse)-стронгилоидоза (мали број лаборатор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глед седимента дуоденалног садржаја-ламблијаза, стронгилоидоза, анкилостомијаза, јаја jeтриног мети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B6B6-D45D-48BF-9EF8-C1BA9CAA754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~PP3822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ерологија-амебијаза (тежа цревна или екстраинтестинална-IHA, IF, ELISA), јерсиниоза, кампилобактериоза, клостридијална инфекција (токсин А и Б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ндоскопија (клострдијална инфек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ативни РТГ абдо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хо абдо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9E21-2CBB-4B0E-9F3F-36A37B64861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Терапија цревних инфекција и интоксикација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42560" y="1628280"/>
            <a:ext cx="75438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ијета, ограничени унос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е сложени макромолекули (месо, млеко, пресно поврће и во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сти угљени хидрати (барени пиринач, шаргарепу, кромпир, плазма кекс, бели хлеб, бела кифла, кока-кола, сладак чај, слане грисине, посне слане супе, банане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Обазриво, са смиривањем дијареалног синдрома уводити јогурт, беланце јајета, барену пилетину, постан млади сир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96C2-74F6-43FE-92C0-5F720953CCD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7" descr="C:\Users\Toshiba\Desktop\преузимање.jpg"/>
          <p:cNvPicPr/>
          <p:nvPr/>
        </p:nvPicPr>
        <p:blipFill>
          <a:blip r:embed="rId5"/>
          <a:stretch/>
        </p:blipFill>
        <p:spPr>
          <a:xfrm>
            <a:off x="5796000" y="981000"/>
            <a:ext cx="28195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2.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Цревна течност у односу на крвну плазму садржи сличну конц Na али 4-5 пута већу конц. К и двоструко већу конц. бикарбо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ежак дијареални синдом: губитак воде, Na, Cl, бикарбоната (ацидоза) и 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ерорална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Заслађен чај, слана посна супа, пиринчана посољен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редства за пероралну рехидратацију (Nelit, Rehidromix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”Dacca” раствор: NaCl+NaHCO3+KCl 5:4:1 (kol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C858-A17C-4545-A3D8-23621E2A8A3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066320" y="8571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травенска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Физиолошки раствор (0,9% NaC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лукосалин (0,9% NaCl+2,5% Gl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Рингеров раст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8,3% NaHCO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Интези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Довољ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ерење артеријског крвног притиска, пулса, диуре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C62C-F1AB-44C8-B5E9-4A1F88DE03A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5" descr="Шта лекова спречава путници Пролив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00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928440" y="1571400"/>
            <a:ext cx="771516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3. Медикаментозн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еме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у повраћеном садржају нема остатака несварене хране-алиментарна интиксик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алгетике и спазмолитике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е давати никада 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ожда се ради о примарно хируршком обољењ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ожда се ради о хируршкој компликацији примарно инфективне болести органа за вар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акутне инфекције ГИТ-а не изазивају тако јаке болов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дијароици (лоперамид)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икада код инфективног пролива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ED07-319B-4BBE-BDC4-FE9EBB74263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071360" y="928800"/>
            <a:ext cx="75438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микробн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Циљев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рже смањење симптома и скраћење трајањ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ржи престанак исзлучивања узрочника (ерадик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венција ком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це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ала деца (млађа од 3 месе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тарији пацијенти (&gt;65 год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мунокомпромитоване 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вазивне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6F42-E392-484A-A6DC-79D2E21762D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еца узраста испод 5 година годишње оболе 5-6 пута од атака инфективног пролива (неразвијени крајев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ваке године дијареја је узрок смрти око 760.000 деце млађе од 5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ијареја је узрок смрти око 1,7 милиона особа годиш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лавни узрок потхрањености деце млађе од 5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3072-E41B-4D95-A94C-9753CDA2A9C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3E97-9F9C-436D-A217-84882B54E3B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2057400" y="914400"/>
            <a:ext cx="3581280" cy="2286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014840" y="317160"/>
            <a:ext cx="70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ffff66"/>
                </a:solidFill>
                <a:latin typeface="Tahoma"/>
              </a:rPr>
              <a:t>Антимикробни лекови који се користе у лечењу инфективних дијареја</a:t>
            </a:r>
            <a:r>
              <a:rPr b="0" i="1" lang="en-US" sz="1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7800" y="893880"/>
          <a:ext cx="8286840" cy="5324400"/>
        </p:xfrm>
        <a:graphic>
          <a:graphicData uri="http://schemas.openxmlformats.org/drawingml/2006/table">
            <a:tbl>
              <a:tblPr/>
              <a:tblGrid>
                <a:gridCol w="2589120"/>
                <a:gridCol w="2586240"/>
                <a:gridCol w="31114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оле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 изб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лтернатив</a:t>
                      </a: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и</a:t>
                      </a: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леков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Шигело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x2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абл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 и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sitetraciklin 2,5 g у току 12 са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алмонелозни ентер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x2 табл. или Amoksicilin 3x500mg/дан и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Ceftriakson 1-2g на 12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нфекције изазване EIE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2x2 табл. или Gentamicin 1mg/kgtt/8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Јерсинијски ентеро</a:t>
                      </a:r>
                      <a:r>
                        <a:rPr b="1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л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oksicilkin 2x100mg, Gentamicin 1mg/kgtt/8 сати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ил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Ceftriakson 1-2g на 12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л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oksiciklin 300mg једнократ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 или Ciprofloksacin 1g једнократно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орал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2x2 табл. или Hloramfenikol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мпилобактер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ј</a:t>
                      </a: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ки ентер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ritromicin 4x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0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5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а или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zitromicin 1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3 дана, орал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Gentamicin 1mg/kgtt/8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сати  и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2x2 таб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сеудомембранозни кол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ankomicin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абл. 4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x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25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</a:t>
                      </a:r>
                      <a:br>
                        <a:rPr sz="1400"/>
                      </a:b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7 да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etronid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abl.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да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5E00-EEA0-499E-8171-F972149EDE2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868320" y="1164600"/>
            <a:ext cx="80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66"/>
                </a:solidFill>
                <a:latin typeface="Tahoma"/>
              </a:rPr>
              <a:t>Антипараз</a:t>
            </a:r>
            <a:r>
              <a:rPr b="0" i="1" lang="sr-Latn-CS" sz="1800" spc="-1" strike="noStrike">
                <a:solidFill>
                  <a:srgbClr val="ffff66"/>
                </a:solidFill>
                <a:latin typeface="Tahoma"/>
              </a:rPr>
              <a:t>ит</a:t>
            </a:r>
            <a:r>
              <a:rPr b="0" i="1" lang="sr-CS" sz="1800" spc="-1" strike="noStrike">
                <a:solidFill>
                  <a:srgbClr val="ffff66"/>
                </a:solidFill>
                <a:latin typeface="Tahoma"/>
              </a:rPr>
              <a:t>ни лекови који се користе у лечењу инфективних дијаре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116000" y="2343240"/>
          <a:ext cx="7791480" cy="2425680"/>
        </p:xfrm>
        <a:graphic>
          <a:graphicData uri="http://schemas.openxmlformats.org/drawingml/2006/table">
            <a:tbl>
              <a:tblPr/>
              <a:tblGrid>
                <a:gridCol w="3451320"/>
                <a:gridCol w="434016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оле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 изб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мебијаза (амебни колитис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75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+ Paromomicin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10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амбли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ја</a:t>
                      </a: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 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алантидија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 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тронгилоидо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iabendaz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3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Цревни антисептици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ифуроксазид (Ентерофури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ериват 5-нитрофу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еханизам деловања није у потпуности разјашњ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нтимикробнe и aнтипаразитарнe oсобине нифуроксазидa, вероватнo потичу oд нитрo-групe </a:t>
            </a:r>
            <a:r>
              <a:rPr b="0" lang="mk-MK" sz="2400" spc="-1" strike="noStrike">
                <a:solidFill>
                  <a:srgbClr val="ffffff"/>
                </a:solidFill>
                <a:latin typeface="Calibri"/>
                <a:ea typeface="Calibri"/>
              </a:rPr>
              <a:t>(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којa je jako eлектрон-реакти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ерапија  нифураксозид-ом  се нe препоручуje дуже oд 7 дан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Kaпсуле сe нe препоручују деци млађoj oд  12 го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486D-3081-4CB4-8504-DA7442A89AE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7"/>
          <a:stretch/>
        </p:blipFill>
        <p:spPr>
          <a:xfrm>
            <a:off x="5715000" y="71280"/>
            <a:ext cx="3840120" cy="2408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File:Nifuroxazide.sv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857160"/>
            <a:ext cx="297972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666880" y="68040"/>
            <a:ext cx="561672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Антимикробни спектар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Rounded Rectangle 1"/>
          <p:cNvSpPr/>
          <p:nvPr/>
        </p:nvSpPr>
        <p:spPr>
          <a:xfrm>
            <a:off x="3124080" y="4038480"/>
            <a:ext cx="5181840" cy="1828800"/>
          </a:xfrm>
          <a:prstGeom prst="roundRect">
            <a:avLst>
              <a:gd name="adj" fmla="val 16667"/>
            </a:avLst>
          </a:prstGeom>
          <a:solidFill>
            <a:srgbClr val="fbfbfb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Gr</a:t>
            </a:r>
            <a:r>
              <a:rPr b="1" lang="sr-Latn-C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am </a:t>
            </a:r>
            <a:r>
              <a:rPr b="1" lang="sr-R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позитивне бактерије</a:t>
            </a:r>
            <a:r>
              <a:rPr b="1" lang="mk-MK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Streptococcus pyoge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Staphylococcus pyog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ounded Rectangle 2"/>
          <p:cNvSpPr/>
          <p:nvPr/>
        </p:nvSpPr>
        <p:spPr>
          <a:xfrm>
            <a:off x="762120" y="1219320"/>
            <a:ext cx="5410080" cy="2361960"/>
          </a:xfrm>
          <a:prstGeom prst="roundRect">
            <a:avLst>
              <a:gd name="adj" fmla="val 16667"/>
            </a:avLst>
          </a:prstGeom>
          <a:solidFill>
            <a:srgbClr val="757575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Gr</a:t>
            </a:r>
            <a:r>
              <a:rPr b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am</a:t>
            </a:r>
            <a:r>
              <a:rPr b="1" lang="mk-MK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1" lang="sr-R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негативне бактер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scherichia 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c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Salmonella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Shigella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999720" y="2286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Пробио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икроорганизми који дати у одређеној дози, обезбеђују здравствену бенефит домаћину (СЗ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Пребио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есварљиве супстанце (углавном олигосахариди) које стимулишу раст и активност пробиотика (углавном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ifidobacteria), те са њима имају синергистички учинак. Најпознатији је инулин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обиотичке врсте компетитивно инхибирају стварање токсичних супстанција и раст мање пожељних врста, такмичећи се за простор и хран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DFFD-C364-4C33-A8AC-1ECD1939AF3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Picture 7" descr="C:\Users\Toshiba\Desktop\probiotici-e-prebiotici.jpg"/>
          <p:cNvPicPr/>
          <p:nvPr/>
        </p:nvPicPr>
        <p:blipFill>
          <a:blip r:embed="rId3"/>
          <a:stretch/>
        </p:blipFill>
        <p:spPr>
          <a:xfrm>
            <a:off x="1547640" y="0"/>
            <a:ext cx="604872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56800" y="333000"/>
            <a:ext cx="77533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Досадашња истраживања указују да пробиотици не могу заменити уништену нормалну цревну флору, међутим као привремене колоније могу овављати исте функције као природна флора, дајући јој времена да се опора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биотичке врсте се потом убрзано замењују нормалном цревном фло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јчешће коришћени пробиотици су различите врсте рода 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Bifidobacterium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 (нормални становници дебелог црева, изоловано 30 врста) и 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Lactobacillu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 (нормални становници црева и вагине, изоловано 56 врста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bifidum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bre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infanti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longu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acidophil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case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стале врсте: 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coccus, Saccharomyce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(probiotički kvasac), 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Enterococcus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Јогурт-бактеријe, aли без прибиотичког ефект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bulgaric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Streptococcus thermophil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444F-08CD-49EA-BF80-783C5EB3A14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Већина пробиотских препарата садржи 1.000.000.000 бактерија на грам или милилит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Обично је препоручена доза: једна капсула дне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ного је важнији квалитет бактерија у препарату, јер оне морају да преживе деловање желудачне и жучних киселина, као и алкални садржај у дуоденуму, како би стигле до црева и биле делотвор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биотике је потребно узимати најмање 5 пута недељно како би се одржао њихов утицај на цревну фл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0E9F-1CF3-4CD0-BED2-1991373E7F0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Calibri"/>
              </a:rPr>
              <a:t>НЕИНВАЗИВНЕ ИНФЕКЦИЈЕ ДИГЕСТИВНОГ ТРАКТ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066320" y="170028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РОВАЊЕ ХРАНОМ ( 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Intoxicatio alimentaris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ношење хране или воде, контаминиране патогеним микроорганизмима или њиховим токси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ичком сликом доминирају гастроинтестинални симптоми и знаци (повраћање, мучнина, проли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еђе, симптоми и знаци од стране гит блааги или одсутни а доминирају симптоми и знаци од стране других органских система (ЦНС-ботулиза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одишњи број оболелих у свету-6.000.000 до 80.000.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узрочници: 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Staphylococcus aureus, Bacilus cereus, Clostridium perfri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4C92-7275-427A-802A-07481A028E5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Стафилококно тровање хра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гзотоксини Staph. Aureus-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7 серолошких типов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афилококног ентеро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отеини ма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олекулск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порни на дејство желудачног и цревних со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дносе повишену температур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стају и пос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30mi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00</a:t>
            </a:r>
            <a:r>
              <a:rPr b="0" lang="sr-Latn-C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мичка обрада намирница не неутралише његову актив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CD41-721E-4FF0-BA2E-FA22DD9A9F7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4140360" y="393372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и епи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јчешће ле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деална подлога за рамножавање St.aureusa и продукцију егзотоксина-млеко, јаја, месо (млевено) тј. подлоге погате уг.хидратима и протеи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тровања-сладолед, колачи, млевено мес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зервоар-клицоноше или пацијенти са носилаштвом узрочника у носу или на кож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ично се ради о контаминацији већ припремљене хране (мада ни термичка обрада намирница не спречава појаву тровања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2556-826B-4037-A944-517A633F9FC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2" descr="C:\Users\Toshiba\Desktop\373560.jpg"/>
          <p:cNvPicPr/>
          <p:nvPr/>
        </p:nvPicPr>
        <p:blipFill>
          <a:blip r:embed="rId7"/>
          <a:stretch/>
        </p:blipFill>
        <p:spPr>
          <a:xfrm>
            <a:off x="5916600" y="0"/>
            <a:ext cx="322740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66320" y="500040"/>
            <a:ext cx="75438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Имунски систем Г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FE45-169D-469C-A1CD-21FF7A71C13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00120" y="1071720"/>
          <a:ext cx="6096240" cy="5459400"/>
        </p:xfrm>
        <a:graphic>
          <a:graphicData uri="http://schemas.openxmlformats.org/drawingml/2006/table">
            <a:tbl>
              <a:tblPr/>
              <a:tblGrid>
                <a:gridCol w="1619280"/>
                <a:gridCol w="1571760"/>
                <a:gridCol w="1380960"/>
                <a:gridCol w="1524240"/>
              </a:tblGrid>
              <a:tr h="548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УРОЂЕ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СТЕЧЕ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неимун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имун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хуморал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целулар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Киселост жел.садржа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Ц</a:t>
                      </a:r>
                      <a:r>
                        <a:rPr b="0" i="1" lang="sr-Latn-C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ркулишуће ефекторске ћел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Антите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(Б-l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-лимфоц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отилит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Ц </a:t>
                      </a:r>
                      <a:r>
                        <a:rPr b="0" i="1" lang="sr-Latn-C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ркулишући ефекторски протеин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Продукција слу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Циток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Панкреасна секре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Запаљенс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реак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Билијарна секре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фл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sp>
        <p:nvSpPr>
          <p:cNvPr id="12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еханизам дејства стаф. ентеротокси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имулација продук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IL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имулација перистал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-a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ктивација центра за повраћање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стимулацијом симпатичких влакана n.vagus-а у горњим партијама дигестивног тракта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ки типови ентротоксина  блокирају ресорпцију електролита и воде из цревног лумена, узрокујући пролив (проли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6533-F6F4-43DF-9F05-A15DE96FE3B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971280" y="260280"/>
            <a:ext cx="754380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1-12 сати (најчешће до 6 часов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гли почет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ређе пролив, повишена телесна температура се по правилу не јав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олошка анк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Лабораторијски  налази (најчешће нормални, знаци дехидрата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Микробиолошке претраг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Детекција ентеротоксина у остацима инкриминисане хране и повраћеном садржају (ретко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2B8C-219E-420A-992F-5ED7D73A45C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имена антибиотика није индикован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1BA6-ECC3-48BD-BAFD-9E8699E2E8E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Bacilus cer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Аеробни, спорогени, Г+ бац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Земљиште, природне вод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широм света, сирове намир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одукује еметички и дијареални тип 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Еметички тип тровања (кувани пиринач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Краткотрајна инкубација (1-6 с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Упорно повраћање, грче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Траје 2 до 10 час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Дијареални тип тровања (поврће, сосеви, пудин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Дужа инкубација (6-14 с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Обилне, водене столице, праћене грчевима у трбуху (ретко повраћа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Траје 16-48 час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8168-D50C-488D-9B4D-52D334BAD5B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5" descr="Ð¡ÑÐ¾Ð´Ð½Ð° ÑÐ»Ð¸ÐºÐ°"/>
          <p:cNvPicPr/>
          <p:nvPr/>
        </p:nvPicPr>
        <p:blipFill>
          <a:blip r:embed="rId4"/>
          <a:stretch/>
        </p:blipFill>
        <p:spPr>
          <a:xfrm>
            <a:off x="5796000" y="0"/>
            <a:ext cx="334800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9CED-5F74-4F2C-992D-73B6B64D20B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1" name="Picture 3" descr="C:\Users\Toshiba\Desktop\Clostridium-perfringens-cells.jpg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1341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115640" y="620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lostridium perfri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лигатни анаероб (може издржати дејство кисеоника и до 72 ча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рминално поставњене споре-отпорне на кување у кључалој води у трајању од 10  мину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сте великом брзином на 15-50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а тровања или епидемије (кантине у фабрикама и војсци, масовна окупљањ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јчешће серотип А, ређе C и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Јесен или зимски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рана која је охлађена без наглог замрза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066320" y="333360"/>
            <a:ext cx="754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нтеротокс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телне ћелије танког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Ћелијска смр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убитак интрацелуларних молекула у лумен црева (Na, Cl, протеини, в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8-24 ча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одени проливи (2-4 столице/днев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рчевити боло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тко повраћање и повишена 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3B6A-1F3D-4DC0-9981-389DA55F445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ibrio parahaemolythi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алофили (висока концентарција соли)-конзумирање морских  животињ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нутар исте врсте могу да продукују различите ентеротоксине, цитотоксине и хемолизине-разноликост клиничке сл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зервоари: остриге, сардине, крабе, лигње, поврће контаминирано сланом морском водом, морск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инфекције: најчешће термички необрађена (али и обрађена) 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лавни проблем: недовољно брзо постигнуто замрза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и епи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1B0C-7245-482D-8794-6D042F6BC62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066320" y="189000"/>
            <a:ext cx="75438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ксплозивни, водени проливи→предшокно стање Најчеш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олови у трбуху, мучнина, повраћање, главобоља (код већи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рхтавица и повишена температура (ређ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изентерични синдром са крваво-слузавим  столицама и лезијом слузнице дебелог црева веома рет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олошка анк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 и 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олација ентеротоксина из повраћеног садржаја, столице, остатака инкримисане хране (не ради се рутинск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98F7-BDD7-4F83-8C46-86211479998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C:\Users\Toshiba\Desktop\cholera2.jpg"/>
          <p:cNvPicPr/>
          <p:nvPr/>
        </p:nvPicPr>
        <p:blipFill>
          <a:blip r:embed="rId1"/>
          <a:stretch/>
        </p:blipFill>
        <p:spPr>
          <a:xfrm>
            <a:off x="0" y="0"/>
            <a:ext cx="3348000" cy="2133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755280" y="260280"/>
            <a:ext cx="785484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Л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ера представља најтежу секреторну дијареју, која се у најтежим облицима може испољити дехидратацијом, хиповолемијским шоком и смртним исх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Vibrio cholerae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G-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акривљени бацил, покрет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спороге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ултативно анаеробни, једнополарна флаг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становници површинских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1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рста патогено за љу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1518-4ECC-4FD1-A466-F209C0A0584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Picture 2" descr="C:\Users\Toshiba\Desktop\bakt_1.jpg"/>
          <p:cNvPicPr/>
          <p:nvPr/>
        </p:nvPicPr>
        <p:blipFill>
          <a:blip r:embed="rId5"/>
          <a:stretch/>
        </p:blipFill>
        <p:spPr>
          <a:xfrm>
            <a:off x="6054840" y="0"/>
            <a:ext cx="308916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оматски-О и флагеларни-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H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г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односу на соматски антиген: серогрупа О1 и О139 (једини узрочници колер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бриони других серогрупа-узрокују колери слична обољења (проливи блажег интезитета, спорадичног каракте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Vibrio cholerae O1: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gaw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Inab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и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Hikojima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ма соматском О антиген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ма биолошким особинама-два биотипа: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lasica, El-Tor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(блажа клиничка сл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алофилне бактерије-високе концентрације соли (полуслане воде ушћа великих ре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DCB6-B52D-4FDE-A085-C1A13756CA9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66320" y="713880"/>
            <a:ext cx="7543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Имунски систем ГИ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 фокално лимфно ткиво (крајници,Пајерове плоче, мезентеријалне лимф.жл.,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апендикс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 дифузна седишта-неорганизовани делови (ламина проприа и епите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81A6-ED33-41FE-B210-1636767FA48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2786040" y="600084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скључиво хума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(ређе), епидемијски и пан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инфекције-оболела особа или клицоноша (жучна кеси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екоорална инфекција (контамиирана вода, храна, контак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актори који фаворизују инфекцију (смањење желудачног ацидитета): гастритис, употреба антацида блокатори H2 рецептора, ресекција желу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 неендемична подручја колера се најчешће импортује као путнички проли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A5BC-8321-4917-8321-E0EDA1FA2F8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онизација танког црева и продукција ентеротоксина (везивањем помоћу пил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ера токсин: 2А и 5Б подједи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-подјединица→везивање токсина за ганглиозид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GM1)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 површини енте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 компонента: А1 и А2 подједи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1 подјединица-продире у ћелију и активира аденилат-циклаз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о резултује продукцијом цикличног аденозин-монофосфата (цАМП)→блокада апсорпције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Na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l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стимулација секреције хлорида и воде у лумен цре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5F63-CDBA-4987-892F-1267AF01CD5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илна секреција изотоничне течности у лумен црева, која превазилази ресорптивни капацитет дебелог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елике количине течности из васкуларног корита и екстрацелуларног простора, као и бикарбоната→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</a:rPr>
              <a:t>хиповолемијски шок и метаболичка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руги, термолабилни токсин-повећана пермеабилност цревне слузнице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zonula occludens toxin)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оштећујући “тесне везе” епителних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кубација: до 3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Често асимптоматска или као банална дијаре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192D-208D-40B6-88A5-2DD1299B6FA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Колеричка дијаре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Бол у трбуху, гађење, малаксал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чне, фекулентне, смрдљиве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јективно: лако дехидратисан пацијент, адинамичан, очуваног крвног прити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убитак течности: 2-5% телесн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: те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Колерички гастроенте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толице учестале, воденасте, обилне, пражњење безболно и експлози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толица-безбојна, личи на пиринчану воду, базне реакције, отужног мириса ( на риб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DC9D-2005-45C4-AFA6-A8D641CC924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течности: 8% телесн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јективно: изразито адинамичан, хипотензиван, олигурич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ffffff"/>
                </a:solidFill>
                <a:latin typeface="Calibri"/>
              </a:rPr>
              <a:t>Алгидни стадију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40-50 столица дневно (дневни губитак 15-20 литара воде тј. преко 10% телесне тежи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раћање, грчеви у мишићима, анурија, хипотен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ешка дехидратација, хиповолемијски шок, анурија,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Facies hipocratica”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силарна температура до 30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ектална до 40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тих “афоничан” глас-”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vox choleric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ахикардија, мукли тонови, убрзан, филиформан пулс, немерљив крвни притисак, увучен “чунаст” трбу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D20B-0306-4F38-A3C2-CC19B0E7E71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олошки подац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Лабораторијске 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ематолошке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Hct↗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Le↗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иохемијске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K↘, Na ↘, Cl ↘,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ет.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цидоз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ренална азотемиј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пергликем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икробиолош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орке сакупити што пре, у раној фази болести (пре примене антибиот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орц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олица, повраћени садржај, брис ректума, контаминиран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4715-7095-4250-AB61-1CB1ED39651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066320" y="907560"/>
            <a:ext cx="7543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ранспортне подлог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о није могуће брз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o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опремити материјал до лаборатор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: o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огаћена алкална пептонск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нкуб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5-6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убкултивација на селективн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TCBS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крвни аг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↓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нкуб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8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ипичне коло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ст аглутина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ливалент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O1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антисерум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еглед столице микроскопом у тамном пољу (покрети вибрио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ерологија-од 7-10 дана (ограничени значај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BDC7-1CE3-41EC-A665-1A8A17E86CB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Зелене колоније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i="1" lang="sr-Latn-CS" sz="2800" spc="-1" strike="noStrike">
                <a:solidFill>
                  <a:srgbClr val="eaeaea"/>
                </a:solidFill>
                <a:latin typeface="Calibri"/>
              </a:rPr>
              <a:t>V.parahaemolyticusa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жуте колоније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i="1" lang="sr-Latn-CS" sz="2800" spc="-1" strike="noStrike">
                <a:solidFill>
                  <a:srgbClr val="eaeaea"/>
                </a:solidFill>
                <a:latin typeface="Calibri"/>
              </a:rPr>
              <a:t>V.cholerae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(TCBS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подлога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4114800"/>
          </a:xfrm>
          <a:prstGeom prst="rect">
            <a:avLst/>
          </a:prstGeom>
          <a:ln w="0">
            <a:noFill/>
          </a:ln>
        </p:spPr>
      </p:pic>
      <p:sp>
        <p:nvSpPr>
          <p:cNvPr id="32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er os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лакши облици дехидратације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4g NaCl+4g NaHCO3+1g KCl+20g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лукозе+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1l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од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Интравенским путем-2 литра за 30 мин. код одрасл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Најчешће се корист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Ringer</a:t>
            </a: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 лактат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NaCl+NaHCO3  2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NaCl+Na-</a:t>
            </a: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лактат 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2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DACCA” : NaCl+NaHCO3+KCl  5:4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биотска терапија (секундарна)-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doxycyclin 300 mg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једнократно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bactrim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или еритромицин (деца)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iprofloksacin 1g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једнократ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0BFB-27B8-4495-9856-71510C65EED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езбеђење здраве, пијаће в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авилна диспозиција људских излучев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акцинација (путовање у ризична подруч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оматски антигени два најважнија серо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фикасност: 7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рајање заштите: 2-5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397F-1A36-4193-B751-B04F09CF1A3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1360" y="356760"/>
            <a:ext cx="754380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Фокално лимфно тк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Пајерове плоче се налазе у танком цреву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терминални илеум), величине су 1-3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m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, састоје  се од Б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ly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, Т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ly</a:t>
            </a:r>
            <a:r>
              <a:rPr b="0" i="1" lang="sr-R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мастоцита, полиморфонуклеара и плазм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На површини П.плоча налазе се М ћелије, одговорне за презентацију А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Дифузно лимфно тк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траепителни леукоцити, леукоцити у ламини пропр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Луче интерлеукине 1</a:t>
            </a:r>
            <a:r>
              <a:rPr b="0" lang="el-GR" sz="2400" spc="-1" strike="noStrike">
                <a:solidFill>
                  <a:srgbClr val="ffffff"/>
                </a:solidFill>
                <a:latin typeface="Calibri"/>
                <a:ea typeface="Calibri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, 1 β, 4, 5, 6; гама интерфер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ЦД8 супресори (85%), ЦД4 помагачки (1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02D2-248C-4FDF-AD21-188017BBBD2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360" y="-214200"/>
            <a:ext cx="75438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Етиолог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5793-7A37-4E04-84FB-BCECD6DF23A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71720" y="500040"/>
          <a:ext cx="7543800" cy="593424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актер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hig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n-typhus salmon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ијарогена </a:t>
                      </a: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sherichia coli (EPEC, ETEC, EIEC, EHEC, EAgEC, DAE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mpylobacter jejuni/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Yersinia enterocoli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Vibrio parahaemolytic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eromonas hydroph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lesiomonas shigelloi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dwardsi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lostridium diffic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choler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phalococcus aureus-e</a:t>
                      </a: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теротоксиг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tridium perfrig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parahaemolytic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ilus ce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928800" y="142920"/>
          <a:ext cx="7543800" cy="62643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иру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нтеровиру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ta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walk-виру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ci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eno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ro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отоз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amoeba histoly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yptospori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ospora bel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Г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љив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ndida sp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  <a:ea typeface="Calibri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  <a:ea typeface="Calibri"/>
                        </a:rPr>
                        <a:t>арази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lantidium 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mblia inestina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ichinela spiralis, Аscaris lumbricoides, Strongiloides stercoralis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659E-A7CA-4117-B461-727A4762301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F183-7832-448F-ADBA-24A243D4164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03400" y="5011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66"/>
                </a:solidFill>
                <a:latin typeface="Tahoma"/>
              </a:rPr>
              <a:t>Диференцијална дијагноза дијареалног синдрома</a:t>
            </a:r>
            <a:r>
              <a:rPr b="0" i="1" lang="en-US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71720" y="1428840"/>
          <a:ext cx="7931160" cy="4968720"/>
        </p:xfrm>
        <a:graphic>
          <a:graphicData uri="http://schemas.openxmlformats.org/drawingml/2006/table">
            <a:tbl>
              <a:tblPr/>
              <a:tblGrid>
                <a:gridCol w="7931160"/>
              </a:tblGrid>
              <a:tr h="499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актеријске, вирусне, паразитарне, гљивичне инфекције цревне слузниц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 Упална жаришта у близини црева (апендицитис, аднекситис, пијелонефритис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 Пролив као општи симптом у току генерализованих инфек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. Друге болести дигестивних орга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. Пролив због хемијског деловања (лаксанси, лекови, отр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6. Пролив код општих метаболичких поремећаја (уремија, дијабетес, хипертиреоза, Адисонова болест, пелагра и сл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sp>
        <p:nvSpPr>
          <p:cNvPr id="14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Predrag Canovic</cp:lastModifiedBy>
  <dcterms:modified xsi:type="dcterms:W3CDTF">2023-02-03T01:18:08Z</dcterms:modified>
  <cp:revision>470</cp:revision>
  <dc:subject/>
  <dc:title>Slide 1</dc:title>
</cp:coreProperties>
</file>